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72A-99D7-4D0A-A809-02BA813B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6B5-9160-4ED4-87AC-B00DA334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77A-9593-4F29-8D43-1BB09E86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6CE-51CD-4946-B0BD-A6C3C568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B6E2-BBC1-43B6-912E-B893380C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8819-1A31-4C22-85A9-DC0B54F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D40E-9C8B-48FC-9152-5E09773F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8245-5B8E-45B7-B55D-627276C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7BF-2072-4E06-B421-153F17B3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9BAB-6243-4232-85E3-FE5FC33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C5F-C4C1-492E-B973-6FBBA16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1B6-DE32-47C9-A67C-6E30595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DD4-651F-4632-A13F-4CAAF73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FBF0-AEC3-45B6-9DB1-1AFCC9C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82EE-DE41-4724-ADF0-671EFFD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979-35B5-4126-A052-BEC86EBA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0661-4829-4433-986D-9D5D5F01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742-7C95-4805-BAFE-30D138CD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9D6-748C-44E0-9EDD-E53CA13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F8D-E282-472C-B576-F03FD1D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EF4-E360-434C-9253-71C6BFE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CE8-B98D-4781-AB34-7DEC928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AB5-56B9-4B85-AADD-4FE26AD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D32-BE83-4426-9B0F-13CE559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750-E56A-42ED-89A7-8CF0F878FC4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8B8A-DC2C-4DFC-B92D-28EC7579E6F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l%20Bayan%20research%20Gantt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: What is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Understanding Meaning of Researc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Research: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undamental/p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earch) advancement of knowledge and the theoretical understanding of the relations among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Researches (customer retentio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search (benchmarking, brand-positioning, omnibu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are more understandable for people not statistically 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better encompass personal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 the firs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understanding of psychological infl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y used to investigate an issue deeply with regards to relevant behaviour and 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for mass invest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used to have a complete picture of a person’s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 simple information on the incidence of attitudes, meanings and perceptions among th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numbers/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ead can be deadly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0  and answer to questions on page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2 and answer questions on page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and type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vs. Journ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e these characteristics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the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 enlighte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ruth, assertion, assump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cts or Opin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re and more women are deciding to give birth at home. A hospital, after all, is not the best place for a baby to 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 of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tudious,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systemati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quiry or examination, especially a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ritic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vestigation or experimentation having for its aim the discovery of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ew fac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orrect interpret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 the revision of accepted conclusions, theories, or laws in the light of new discovered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vs. Journa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systematic, sceptical, ethics, unbiased, argumentative, methodological, cares for needs/sensitivity/psychology of the participa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urn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writing having a main theme written by a person who saw the event or by a person who heard of the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ies of researcher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biased (strength and limitation of cultural perspectiv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ep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of facts, attitudes, opinions, beliefs, knowledge claim,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judge validity of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question/statements/assump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: desk research for secondar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: surveys/interviews for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i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ing/interpreting data (E.g. SPSS program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Lorenza Innocenti</cp:lastModifiedBy>
  <dcterms:modified xsi:type="dcterms:W3CDTF">2008-05-25T08:02:43Z</dcterms:modified>
  <cp:revision>22</cp:revision>
  <dc:subject/>
  <dc:title>Course: Foundamentals of Research</dc:title>
</cp:coreProperties>
</file>